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ED5-250C-4602-A638-ADC59BEF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F78-FDE4-46E3-8FE6-96BF97D0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0ED-BD77-42AF-8440-DFEE2241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397-D657-42D9-84A4-ED0F0E1F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0941-BA08-4986-B428-950F2402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5052-5D34-4B31-8A9D-37B4225D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FCD0-A5CC-4565-81AF-406BE053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3154-D39C-4DC7-BF70-D9D67C8E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6ADD-048B-4183-9213-D04E6677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73C1-BD3B-4359-8399-29155A88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A742-10C3-4849-8A6F-ED0E980B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AFE-FB22-4BC4-B2A9-A9EE9F98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5B5E-091B-4917-B0C6-0DF2EA3F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AF06-6A19-4AEA-B9B8-89EA1AD6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073E-30EE-4467-BB28-A8E2503A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42F2-7F81-4565-93E7-531B02D0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0F29-E36F-4DE5-8AEA-6CC3B7C1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ABF3-BBAE-482C-8DA5-31CB8F77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FA3-19DC-4350-A22A-F61C5770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F84-0BBA-45DE-9640-3FADEA4D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336E-4D01-443A-8261-09E35DD5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39B-9DBB-4E92-A52E-2BF2737E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EF94-A6A9-4546-886D-1666B4CD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F1D-1937-493E-AF2A-CE06CB1C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B35B-DC2C-44EC-87A7-78F958D7D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4557-DCF3-4D1D-98B0-F96DEADD6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бразовательная среда образовательного учреждения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Параметры образовательной среды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257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Творческие способности для нас – это 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расположенность к творчеству, свойства, присущие каждому без исключения человеку от рождения и развиваемые в процессе становления лич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ыготский Л.С., Э. Фромм, Я.А. Пономарев,  К. и Н. Роджерс, Л.А. Большакова, О,И. Мотков, А.И.Савенков, А.Лобо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Образовательная среда для нас – это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ая сфера всех субъектов образования (педагога, ребёнка, родителя), в которой каждый из них одновременно и её творец и проду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 возможностей и жизненных шан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.Т. Шацкий, Е.А. Климов, Г.А. Ковалёв, А.Н.Тубельский, В.А. Ясв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60436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образовательной сред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25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ющие на развитие инициативы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зовых (творческих) способностей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ственно-предм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странственно-предметный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здания, размер и пространственная структура внутренних помещений, лёгкость пространственной трансформации при возникшей необходимости, возможность и широта пространственных перемещений 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е условия жизни (помещения, мебель, оборудование, пособ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, гигиенические условия (микроклимат, чистота, безопас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часть (правила внутреннего распорядка, устав, законы, средства наглядности, рекламы, любые идеи, выраженные в той или иной форме, требования, приказы, советы, пожелания, поручения, сообщения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ическая часть (здоровье, самочувст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ы, приёмы,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ический 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енная и социальная плотность, степень скученности и его влияния на социальное поведение, личностные особенности педагогов и воспитанников, распределение статусов и ролей, половозрастные и национальные особеннос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пример окружающих, их культура, опыт, образ жизни, деятельность, поведение, взаимоотношени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, организации, группы и их представители, с которыми приходится реально взаимодействовать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стройство» группы (своей) и коллективов, с которыми контактирует человек (наличие выделившихся по тем или иным основаниям «лидеров», преуспевающих», «звёзд», отстающих, «отверженных» и т.д.); реальное место человека в данной группе, включённость его в другие группы группировки, уровень его защищённости от различного рода посягатель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Типы образовательной среды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902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244440"/>
            <a:ext cx="8690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бщие диагностические вопросы для определения типа образовательной среды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сь «Свобода – зависим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Чьи интересы и ценности ставятся на первое место в данной образовательной сред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 личности или общества (групп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Кто к кому подстраивается в процессе взаимодейств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воспитатель к ребенку или ребенок к воспитате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Какая форма воспитания преимущественно осуществляется в данной образовательной среде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ая  или коллективная (групповая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сь «Активность – пассив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актикуется ли в данной образовательной среде какое-либо наказание ребен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Стимулируется ли в данной образовательной среде проявление ребенком  инициатив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Находят ли какой-либо положительный отклик в данной образовательной среде те или иные творческие проявления ребен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Параметры образовательной среды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оминантн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начим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анной локальной сред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истеме ценнос­тей субъек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азовательного процесса. Доминантность описывает образовательную среду по критери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значимое — незначимо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тенсивн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ь насыще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азовательной среды условиями, влияниями и возможностями, а такж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центрирован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х проя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герентность (согласованность)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гармоничность -негармоничность»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о показател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и согласова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сех локальных образовательных сред, функциональным субъектом которых выступает данная 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обильность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ность 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чным эволюционны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мене­ния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контексте взаимоотношений со средой об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общенн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характеризу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ь координ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еятельности всех субъектов данной образовательно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сознаваемость образовательной сред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зат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ознательной включё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её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сех субъект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ая активность образовательной среды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степень ее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лияния на среду обит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стойчив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бильность во време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Широта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епен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е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данную образовательную сред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, объектов, процессов и явл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и их многообраз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моциональность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отнош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не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моционального и рациональн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мпон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1T05:01:2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